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885E-1E3E-43F3-87D3-E108B69B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D2D-C05B-40B5-844A-30518EDA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8889-433D-4D9D-B4C0-3590EAF3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5AD-339C-4674-BCAA-2DFE5C06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81DE-DFFE-4B79-90F6-F5258B90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46C5-8483-4560-8AB0-CD355C7D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9A53-F5D8-4B11-AC39-BA0B6D3D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A409-B630-4491-A63B-1BE6F728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F436-514D-433E-84CD-B4E898AB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F648-CC0D-48EC-984D-CA3AF9E9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B9BF-DA73-48CE-AFC7-435AC2D5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3D7-3C9A-4A19-8615-D0F41099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9830-72D1-4AEC-ACCA-2A8551DB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BA31-F310-4B08-A24A-8B525320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2182-46B7-4674-93A6-B469B9A8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22DA-D1A4-43F0-BC66-4CEBD600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8F5E-6887-4518-B4F0-FC4AEB2C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73FE5-365A-4E36-BE5C-E80474E4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92224-2BF8-4CAB-B384-C93314A0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33C68-3B4C-445D-B8D2-06CD3EC7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6E7D7-7923-4F29-88C9-BBBF17CC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BFAFD-71CD-4FE1-A591-4513D782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F47-4261-49BD-974E-E3CBF0BD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0A37F-8564-4360-8892-2205D2AF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531E3-94E5-44F6-ACD7-59361DBD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0EB82-37EA-47CE-A056-633571DE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E36F1-38AF-4B64-A340-FF82312B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5969B-3E60-4483-8957-F9A5256B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39376-ECBE-49DA-800C-70D76CAE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ACFA5-3652-4E4C-9D67-ACCD621E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D23FA-F14F-49AD-BF59-37C70E9F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DDD66-FCEB-4316-962A-1521A013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5467C-0744-4E4E-839E-A8E864D9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B6F5-C3EB-4CE1-ACED-0B7650FE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BD7A5-D38E-4789-934D-145EC984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3030F-32B3-487E-98BD-74695FF7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A3242-4C23-446E-8BA1-D6894B41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58051-CB47-4115-8246-6F384BFC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EA457-6CF6-4FE4-BF76-2A51FD48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FA370-ADF2-4719-8B47-7574969A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F78EC-D480-48A4-A718-2F28A2D4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42E17-0C1C-4EC6-B593-DC2A13D6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B4A13-6DF0-4827-84C9-C0926B20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741DF-9593-423C-8D10-BB31A8B1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C86E-8BDA-4EDC-AC08-6DC05B67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FAF70-F1A1-4560-880D-90EF12EB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1799B-35B7-4735-B85B-FBF7310B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0ECDE-8EF2-4B5E-B438-6692D4BA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92791-43AD-45EF-8BDF-F4035C84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242BD-2680-4106-860F-EBBB51E2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DF11E-09D0-42DA-9993-EE537883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84FC9-4074-46A2-8BE8-AC96EDC8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BDD5D-EC9F-4E2A-AF34-E4712F4B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389E1-05F2-4CE9-B3C9-11D0194A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A17F5-7ADA-4211-B003-CB72B28E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39D-8C3F-4E54-96D3-471840A1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650D3-AD51-434B-80B3-49083860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95265-85BB-4CCC-BF97-70CD99F9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F2E78-F3CE-4D97-9C85-7977DF57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5E6F9-B700-416A-ADBE-19CD8975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D0192-B60F-4234-8612-37FD7E63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48E56-8B57-4310-9F77-1B23F690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4E6B3-3787-4E95-9D37-AE07C055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FA9CB-A63D-4E95-BDB3-1C8E89EB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3A855-7EE9-41DA-8575-18541EE6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9E343-4E36-4141-A06D-21EA39CD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F29-B726-48A3-B8C5-D9FA1B90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3B36D-D86A-41DB-BF54-EDD3E541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98C17-4D12-43BC-A582-D2A502E4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28C1A-FC1F-4C83-9AFE-A90E7693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DB201-EA03-4CB7-810F-8F483C86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62FB3-D45A-4894-8DAD-582BD243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317AB-A81E-4629-A21F-108AF8D9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568B6-063F-457A-A7CE-C1C38130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31AC9-4357-46AC-A4C6-EAA31E93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23DE3-B66F-4379-A858-9A8FF706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3E8F4-F984-436D-8284-AFF5ADE2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AF7-AA3D-4337-93D0-6B201B71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694BC-79DB-4628-8543-9E795727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11348-BB75-4987-9702-3CA16588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73945-C155-4218-AC69-BFCC5753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D5D96-1DAC-495A-9FE2-6587724D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335AF-1E14-4EC4-A2C5-DCEE8CF5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30B-2472-4788-BDAC-585E7CCF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601A-76F0-4484-8062-59292118B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7660-45B3-45C5-B575-CE9A5CBB2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83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4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0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93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4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97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98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01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04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07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10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13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16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19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22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25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28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31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34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37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40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43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46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49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52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55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58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63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66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69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72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75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78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81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84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87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90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93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5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617C-1487-4AAB-A98C-FF5C825E830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5384-9935-417D-9479-3B62B7243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B6D3-E937-43A3-AF03-ED4DA3289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341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342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345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34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4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350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351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354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357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6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6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66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369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372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375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378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381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Group 45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384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87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39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393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396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39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402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405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408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411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3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5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416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419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422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Freeform 85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425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428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431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434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437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440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443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46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48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449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450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8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459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778A-D5AF-4774-BD28-E79DC2E2B48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7B35-897C-42E1-B2FE-EEEBF7409D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4"/>
          <p:cNvSpPr/>
          <p:nvPr/>
        </p:nvSpPr>
        <p:spPr>
          <a:xfrm>
            <a:off x="457200" y="38088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e1f08"/>
                </a:solidFill>
                <a:latin typeface="Arial"/>
                <a:ea typeface="隶书"/>
              </a:rPr>
              <a:t>第八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WordArt 8"/>
          <p:cNvSpPr txBox="1"/>
          <p:nvPr/>
        </p:nvSpPr>
        <p:spPr>
          <a:xfrm>
            <a:off x="380880" y="2286000"/>
            <a:ext cx="84250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99"/>
              </a:avLst>
            </a:prstTxWarp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植物中水分、</a:t>
            </a:r>
            <a:endParaRPr b="0" lang="en-US" sz="3200" spc="1" strike="noStrike">
              <a:ln w="1260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干物质和灰分的测定</a:t>
            </a:r>
            <a:endParaRPr b="0" lang="en-US" sz="3200" spc="1" strike="noStrike">
              <a:ln w="1260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4"/>
          <p:cNvSpPr/>
          <p:nvPr/>
        </p:nvSpPr>
        <p:spPr>
          <a:xfrm>
            <a:off x="838080" y="1893600"/>
            <a:ext cx="7467840" cy="34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宋体"/>
              </a:rPr>
              <a:t>  ① </a:t>
            </a:r>
            <a:r>
              <a:rPr b="1" lang="zh-CN" sz="2800" spc="-1" strike="noStrike">
                <a:solidFill>
                  <a:srgbClr val="00ffff"/>
                </a:solidFill>
                <a:latin typeface="宋体"/>
              </a:rPr>
              <a:t>风干植物样品的测定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称量容器烘干恒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取洁净的称量瓶或洁净的铝盒，放入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100-105℃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的恒温烘箱中烘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分钟，取出，盖好盖，转入盛有硅胶的干燥器中冷却至室温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约需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20-30min)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取出，称量；再烘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30min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称量，两次称量之差小于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1mg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为恒重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ffff66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5"/>
          <p:cNvSpPr/>
          <p:nvPr/>
        </p:nvSpPr>
        <p:spPr>
          <a:xfrm>
            <a:off x="3962520" y="720"/>
            <a:ext cx="5181480" cy="698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常压恒温干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1691280" y="685800"/>
            <a:ext cx="5904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、测定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1066680" y="838080"/>
            <a:ext cx="723924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样品烘干恒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取粉碎后混匀的风干样品约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3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，平铺于已恒重的称量瓶中，称取其准确质量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；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将盖子打开后，放于已升温至约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115℃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的烘箱中，关好烘箱门，调节温度在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100-105℃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，烘干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4-6h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取出，盖好盒盖，转入干燥器中冷却至室温、称量；</a:t>
            </a:r>
            <a:r>
              <a:rPr b="1" lang="zh-CN" sz="2800" spc="-1" strike="noStrike">
                <a:solidFill>
                  <a:srgbClr val="d60093"/>
                </a:solidFill>
                <a:latin typeface="宋体"/>
              </a:rPr>
              <a:t>再烘干</a:t>
            </a:r>
            <a:r>
              <a:rPr b="1" lang="en-US" sz="2800" spc="-1" strike="noStrike">
                <a:solidFill>
                  <a:srgbClr val="d60093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d60093"/>
                </a:solidFill>
                <a:latin typeface="宋体"/>
              </a:rPr>
              <a:t>，称量</a:t>
            </a:r>
            <a:r>
              <a:rPr b="1" lang="en-US" sz="2800" spc="-1" strike="noStrike">
                <a:solidFill>
                  <a:srgbClr val="d60093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d60093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d60093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d60093"/>
                </a:solidFill>
                <a:latin typeface="宋体"/>
              </a:rPr>
              <a:t>直至前后两次质量差小于</a:t>
            </a:r>
            <a:r>
              <a:rPr b="1" lang="en-US" sz="2800" spc="-1" strike="noStrike">
                <a:solidFill>
                  <a:srgbClr val="d60093"/>
                </a:solidFill>
                <a:latin typeface="宋体"/>
              </a:rPr>
              <a:t>2mg</a:t>
            </a:r>
            <a:r>
              <a:rPr b="1" lang="zh-CN" sz="2800" spc="-1" strike="noStrike">
                <a:solidFill>
                  <a:srgbClr val="d60093"/>
                </a:solidFill>
                <a:latin typeface="宋体"/>
              </a:rPr>
              <a:t>，为恒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3"/>
          <p:cNvSpPr/>
          <p:nvPr/>
        </p:nvSpPr>
        <p:spPr>
          <a:xfrm>
            <a:off x="3962520" y="720"/>
            <a:ext cx="5181480" cy="698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常压恒温干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94"/>
            </a:gs>
            <a:gs pos="50000">
              <a:srgbClr val="000000"/>
            </a:gs>
            <a:gs pos="100000">
              <a:srgbClr val="3c00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4"/>
          <p:cNvSpPr/>
          <p:nvPr/>
        </p:nvSpPr>
        <p:spPr>
          <a:xfrm>
            <a:off x="685800" y="1653840"/>
            <a:ext cx="799308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宋体"/>
              </a:rPr>
              <a:t>② </a:t>
            </a:r>
            <a:r>
              <a:rPr b="1" lang="zh-CN" sz="3600" spc="-1" strike="noStrike">
                <a:solidFill>
                  <a:srgbClr val="ff99ff"/>
                </a:solidFill>
                <a:latin typeface="宋体"/>
              </a:rPr>
              <a:t>新鲜植物样品中水分的测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取一小烧杯，放入约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</a:rPr>
              <a:t>5g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</a:rPr>
              <a:t>10g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干净的石英砂和一支小玻棒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水分不多时可不加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，移入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</a:rPr>
              <a:t>100-105℃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烘箱中烘至恒重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ffcc00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ffff"/>
                </a:solidFill>
                <a:latin typeface="宋体"/>
              </a:rPr>
              <a:t>将新鲜样品约</a:t>
            </a:r>
            <a:r>
              <a:rPr b="1" lang="en-US" sz="2800" spc="-1" strike="noStrike">
                <a:solidFill>
                  <a:srgbClr val="00ffff"/>
                </a:solidFill>
                <a:latin typeface="宋体"/>
              </a:rPr>
              <a:t>5g</a:t>
            </a:r>
            <a:r>
              <a:rPr b="1" lang="zh-CN" sz="2800" spc="-1" strike="noStrike">
                <a:solidFill>
                  <a:srgbClr val="00ffff"/>
                </a:solidFill>
                <a:latin typeface="宋体"/>
              </a:rPr>
              <a:t>，于小烧杯中，与石英砂混匀后称量</a:t>
            </a:r>
            <a:r>
              <a:rPr b="1" lang="en-US" sz="2800" spc="-1" strike="noStrike">
                <a:solidFill>
                  <a:srgbClr val="00ffff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ffff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将小烧杯和样品先在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50-60℃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的干燥箱中鼓风干燥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3-4h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，中间可翻动样品两到三次，样品烘脆后，轻轻压碎，转入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100-105℃(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不鼓风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烘约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3-4h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，冷却、称量。</a:t>
            </a:r>
            <a:r>
              <a:rPr b="1" lang="zh-CN" sz="2800" spc="-1" strike="noStrike">
                <a:solidFill>
                  <a:srgbClr val="66ff33"/>
                </a:solidFill>
                <a:latin typeface="宋体"/>
              </a:rPr>
              <a:t>再同法烘约</a:t>
            </a:r>
            <a:r>
              <a:rPr b="1" lang="en-US" sz="2800" spc="-1" strike="noStrike">
                <a:solidFill>
                  <a:srgbClr val="66ff33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66ff33"/>
                </a:solidFill>
                <a:latin typeface="宋体"/>
              </a:rPr>
              <a:t>，称量，至恒重</a:t>
            </a:r>
            <a:r>
              <a:rPr b="1" lang="en-US" sz="2800" spc="-1" strike="noStrike">
                <a:solidFill>
                  <a:srgbClr val="66ff33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ff33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5"/>
          <p:cNvSpPr/>
          <p:nvPr/>
        </p:nvSpPr>
        <p:spPr>
          <a:xfrm>
            <a:off x="3962520" y="720"/>
            <a:ext cx="5181480" cy="698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常压恒温干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2007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4"/>
          <p:cNvSpPr/>
          <p:nvPr/>
        </p:nvSpPr>
        <p:spPr>
          <a:xfrm>
            <a:off x="380880" y="829080"/>
            <a:ext cx="8352000" cy="44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ccff66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ccff66"/>
                </a:solidFill>
                <a:latin typeface="宋体"/>
              </a:rPr>
              <a:t>、结果计算：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ffccff"/>
                </a:solidFill>
                <a:latin typeface="宋体"/>
              </a:rPr>
              <a:t>水分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%=(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-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)/(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-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)*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ffccff"/>
                </a:solidFill>
                <a:latin typeface="宋体"/>
              </a:rPr>
              <a:t>干物质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%=(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-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)/(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-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)*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式中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ccff66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称量瓶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或小烧杯加砂、玻棒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的质量，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g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ccff66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风干样或鲜样及称量瓶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或小烧杯加砂、玻棒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的总质量，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g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ccff66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烘干样及称量瓶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或小烧杯加砂、玻棒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的总质量，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g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5"/>
          <p:cNvSpPr/>
          <p:nvPr/>
        </p:nvSpPr>
        <p:spPr>
          <a:xfrm>
            <a:off x="3962520" y="720"/>
            <a:ext cx="5181480" cy="698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常压恒温干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533520" y="609480"/>
            <a:ext cx="8208720" cy="39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、石英砂的清洗方法：先用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摩尔的盐酸煮沸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0.5h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，水洗至中性，再用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摩尔的氢氧化钠煮沸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0.5h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，水洗至中性，烘干备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、 每次冷却的时间要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ff99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ff99"/>
                </a:solidFill>
                <a:latin typeface="宋体"/>
              </a:rPr>
              <a:t>、 在空气湿度较大时，要注意称量速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、 在新鲜样品测定中，注意混匀时不要造成样品、砂等的损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5"/>
          <p:cNvSpPr/>
          <p:nvPr/>
        </p:nvSpPr>
        <p:spPr>
          <a:xfrm>
            <a:off x="3962520" y="720"/>
            <a:ext cx="5181480" cy="698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常压恒温干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50000">
              <a:srgbClr val="003399"/>
            </a:gs>
            <a:gs pos="100000">
              <a:srgbClr val="0018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4"/>
          <p:cNvSpPr/>
          <p:nvPr/>
        </p:nvSpPr>
        <p:spPr>
          <a:xfrm>
            <a:off x="609480" y="2010600"/>
            <a:ext cx="79758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注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续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ff99"/>
                </a:solidFill>
                <a:latin typeface="Arial"/>
              </a:rPr>
              <a:t>5. </a:t>
            </a:r>
            <a:r>
              <a:rPr b="1" lang="zh-CN" sz="2800" spc="-1" strike="noStrike">
                <a:solidFill>
                  <a:srgbClr val="00ff99"/>
                </a:solidFill>
                <a:latin typeface="Arial"/>
              </a:rPr>
              <a:t>新鲜植物组织样品的含水量较高，不宜直接在</a:t>
            </a:r>
            <a:r>
              <a:rPr b="1" lang="en-US" sz="2800" spc="-1" strike="noStrike">
                <a:solidFill>
                  <a:srgbClr val="00ff99"/>
                </a:solidFill>
                <a:latin typeface="Arial"/>
              </a:rPr>
              <a:t>100℃</a:t>
            </a:r>
            <a:r>
              <a:rPr b="1" lang="zh-CN" sz="2800" spc="-1" strike="noStrike">
                <a:solidFill>
                  <a:srgbClr val="00ff99"/>
                </a:solidFill>
                <a:latin typeface="Arial"/>
              </a:rPr>
              <a:t>烘干。因为在高温条件下，表面组织容易快速干燥，形成干壳，导致内部组织的水分不易蒸发出来，烘干速度反而较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ffccff"/>
                </a:solidFill>
                <a:latin typeface="Arial"/>
              </a:rPr>
              <a:t>在常规分析中，水分的计算，习惯上都是以分析样为基础的，即多数为风干样。如需要新鲜植物的水分含量，一定注意，在采样后，样品制备的同时，取一部分样品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ccff"/>
                </a:solidFill>
                <a:latin typeface="Arial"/>
              </a:rPr>
              <a:t>要有代表性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ccff"/>
                </a:solidFill>
                <a:latin typeface="Arial"/>
              </a:rPr>
              <a:t>测定水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3962520" y="720"/>
            <a:ext cx="5181480" cy="698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常压恒温干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800000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4"/>
          <p:cNvSpPr/>
          <p:nvPr/>
        </p:nvSpPr>
        <p:spPr>
          <a:xfrm>
            <a:off x="1295280" y="2627280"/>
            <a:ext cx="704052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、方法原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66ff99"/>
                </a:solidFill>
                <a:latin typeface="Arial"/>
              </a:rPr>
              <a:t>在减压下，水分的沸点降低，可使植物样品中的水分在较低的温度下蒸发，根据干燥前、后的质量差，计算水分含量。该法适用于含糖较多的样品，但不适用于含挥发性物质的样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3321000" y="404640"/>
            <a:ext cx="2797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</a:rPr>
              <a:t>三、减压干燥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4"/>
          <p:cNvSpPr/>
          <p:nvPr/>
        </p:nvSpPr>
        <p:spPr>
          <a:xfrm>
            <a:off x="380880" y="1492560"/>
            <a:ext cx="8498160" cy="39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、操作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取样品约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-3g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于已知恒重质量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铝盒中，打开盒盖，放入已预热至约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0℃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真空干燥箱内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抽气减压至要求的压力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约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100-400kPa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调节温度至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50-60℃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。关闭抽气活塞，停止抽气。使干燥箱内保持一定的温度和压力，经一定时间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约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3-5h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后，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打开进气活塞，使空气经干燥装置后漫漫进入干燥箱内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进气速度不能过快，以免空气对流强烈而吹散已烘干的样品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，至箱内压力与大气压相平衡后，打开箱门，取出铝盒盖好，移入干燥器中冷却、称量。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再烘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1h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，冷却、称量至恒重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5335920" y="143640"/>
            <a:ext cx="2586960" cy="930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99"/>
                </a:solidFill>
                <a:latin typeface="Arial"/>
              </a:rPr>
              <a:t>减压干燥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1066680" y="914400"/>
            <a:ext cx="70567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、结果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%=(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/(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*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干物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%=(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/(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*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宋体"/>
              </a:rPr>
              <a:t>式中</a:t>
            </a:r>
            <a:r>
              <a:rPr b="0" lang="zh-CN" sz="3200" spc="-1" strike="noStrike">
                <a:solidFill>
                  <a:srgbClr val="660033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铝盒的质量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g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风干样或鲜样加铝盒的总质量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g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烘干样加铝盒的总质量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g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6"/>
          <p:cNvSpPr/>
          <p:nvPr/>
        </p:nvSpPr>
        <p:spPr>
          <a:xfrm>
            <a:off x="5335920" y="143640"/>
            <a:ext cx="2586960" cy="930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99"/>
                </a:solidFill>
                <a:latin typeface="Arial"/>
              </a:rPr>
              <a:t>减压干燥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4"/>
          <p:cNvSpPr/>
          <p:nvPr/>
        </p:nvSpPr>
        <p:spPr>
          <a:xfrm>
            <a:off x="762120" y="2797920"/>
            <a:ext cx="783900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just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、方法原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植物样品中的水分与甲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或二甲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起蒸馏，二者组成的共混物其沸点低于甲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110.8℃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和水的沸点，可使样品中的水分在较低的温度下迅速蒸馏出来，收集溜出液于接受管中，由溜出水的体积计算样品中水分的含量。此法适用于含挥发性油和干性油等易氧化的油料植物样品，以及水分含量高的新鲜样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1873440" y="304920"/>
            <a:ext cx="366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四、蒸馏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6"/>
          <p:cNvSpPr/>
          <p:nvPr/>
        </p:nvSpPr>
        <p:spPr>
          <a:xfrm>
            <a:off x="6021360" y="492480"/>
            <a:ext cx="1293840" cy="689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蒸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4"/>
          <p:cNvSpPr/>
          <p:nvPr/>
        </p:nvSpPr>
        <p:spPr>
          <a:xfrm>
            <a:off x="684360" y="1256040"/>
            <a:ext cx="8135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第八章 植物中水分、干物质和灰分的测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755640" y="3068640"/>
            <a:ext cx="8388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植物中水分和干物质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 植物中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4"/>
          <p:cNvSpPr/>
          <p:nvPr/>
        </p:nvSpPr>
        <p:spPr>
          <a:xfrm>
            <a:off x="380880" y="2863440"/>
            <a:ext cx="8305920" cy="18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.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洗净、烘干蒸馏装置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将蒸馏式水分测量装置的各部分用重铬酸钾洗液及水洗净、烘干，以防止测定时带入外来水分，或样品中的水以水滴的形式粘附于蒸馏器的内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蒸馏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安装蒸馏装置：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准确称取剪碎、混匀的样品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估计含水量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-5ml)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放入干燥的蒸馏瓶中，加入新蒸馏的甲苯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或二甲苯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约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75ml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使样品全部淹没。连接好接收管和冷凝管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严防漏气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从冷凝管的顶端加入适量的甲苯，将水分接收管装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5"/>
          <p:cNvSpPr/>
          <p:nvPr/>
        </p:nvSpPr>
        <p:spPr>
          <a:xfrm>
            <a:off x="7230960" y="360"/>
            <a:ext cx="1293840" cy="689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蒸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2002680" y="0"/>
            <a:ext cx="51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、操作步骤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4"/>
          <p:cNvSpPr/>
          <p:nvPr/>
        </p:nvSpPr>
        <p:spPr>
          <a:xfrm>
            <a:off x="914400" y="1295280"/>
            <a:ext cx="731520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蒸馏水分：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打开冷凝水源、电源，以文火徐徐加热蒸馏瓶，使每秒钟溜出液约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滴，待大部分水分蒸馏出来后，增大火力，使每秒的流出速度约为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滴，直至接收管中水分的体积不在增加，且水液上层的甲苯溶液已澄清透明、不在浑浊时，关闭电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5"/>
          <p:cNvSpPr/>
          <p:nvPr/>
        </p:nvSpPr>
        <p:spPr>
          <a:xfrm>
            <a:off x="6869160" y="360"/>
            <a:ext cx="1293840" cy="689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蒸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2002680" y="0"/>
            <a:ext cx="51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、操作步骤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4"/>
          <p:cNvSpPr/>
          <p:nvPr/>
        </p:nvSpPr>
        <p:spPr>
          <a:xfrm>
            <a:off x="1042920" y="1773360"/>
            <a:ext cx="711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读取水的体积：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从冷凝管的顶端注入少量甲苯冲洗内壁上水滴，接收管内壁上的水滴可用附有小橡皮头的铜丝轻轻推入水液内。待接收管内溶液冷却至室温后，读取水的体积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(ml)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5"/>
          <p:cNvSpPr/>
          <p:nvPr/>
        </p:nvSpPr>
        <p:spPr>
          <a:xfrm>
            <a:off x="7226280" y="360"/>
            <a:ext cx="1293840" cy="689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蒸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2002680" y="609480"/>
            <a:ext cx="51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、操作步骤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4"/>
          <p:cNvSpPr/>
          <p:nvPr/>
        </p:nvSpPr>
        <p:spPr>
          <a:xfrm>
            <a:off x="990720" y="2132640"/>
            <a:ext cx="716256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水分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%=(V*ρ)*m</a:t>
            </a:r>
            <a:r>
              <a:rPr b="1" lang="en-US" sz="3600" spc="-1" strike="noStrike" baseline="30000">
                <a:solidFill>
                  <a:srgbClr val="333399"/>
                </a:solidFill>
                <a:latin typeface="宋体"/>
              </a:rPr>
              <a:t>-1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*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式中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:V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接收管中水的体积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ml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水的密度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g/ml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m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样品质量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g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"/>
          <p:cNvSpPr/>
          <p:nvPr/>
        </p:nvSpPr>
        <p:spPr>
          <a:xfrm>
            <a:off x="7226280" y="360"/>
            <a:ext cx="1293840" cy="689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蒸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2384640" y="993600"/>
            <a:ext cx="685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、结果计算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4"/>
          <p:cNvSpPr/>
          <p:nvPr/>
        </p:nvSpPr>
        <p:spPr>
          <a:xfrm>
            <a:off x="457200" y="685800"/>
            <a:ext cx="828036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注意事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蒸馏法测定水分的载体有许多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二甲苯的效果最好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所需的时间最短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水的回收率较高；甲苯次之。因甲苯、二甲苯为易燃物质；应注意防火。四氯乙烯的效果也较好，且不易燃烧，但毒性较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、蒸馏法测定水分的装置有两种，以迪安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斯塔克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(Dean-Stark)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装置较为简单实用，适合常规分析，但精密度较差，读数精度为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0.1ml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。巴尔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亚伍德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(Barr-Yarwood)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装置测量精度较高，适于精密分析，但装置准备较为复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5"/>
          <p:cNvSpPr/>
          <p:nvPr/>
        </p:nvSpPr>
        <p:spPr>
          <a:xfrm>
            <a:off x="6716160" y="360"/>
            <a:ext cx="1293840" cy="689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蒸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4"/>
          <p:cNvSpPr/>
          <p:nvPr/>
        </p:nvSpPr>
        <p:spPr>
          <a:xfrm>
            <a:off x="762120" y="3067920"/>
            <a:ext cx="7772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概述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灰分是植物样品经灼烧后所残留的无机物质，主要是一些无机盐和氧化物。植物干物质中灰分的含量随植物种类、品种、器官、部位、生育期、生长环境及农业管理措施的不同而有一定的变动。一般含量范围在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%-7%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，平均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%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2147400" y="533520"/>
            <a:ext cx="48837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第二节  植物中灰分的测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4"/>
          <p:cNvSpPr/>
          <p:nvPr/>
        </p:nvSpPr>
        <p:spPr>
          <a:xfrm>
            <a:off x="914400" y="1447920"/>
            <a:ext cx="734364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测定灰分的含量，可了解各种植物在不同生育期和不同器官中养分吸收和积累状况，以及土壤、施肥、气候、栽培管理等因素对植物灰分含量变化的影响。也是农产品和其加工产品的品质检测项目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5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4"/>
          <p:cNvSpPr/>
          <p:nvPr/>
        </p:nvSpPr>
        <p:spPr>
          <a:xfrm>
            <a:off x="304920" y="1984320"/>
            <a:ext cx="8381880" cy="29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方法原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植物样品经低温炭化和高温灼烧，水分及有机质被蒸发或氧化气化，最后剩余不可燃部分为灰分元素的氧化物或无机盐，称量后可计算灰分的含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由于灰分中含有未烧净的炭粒、样品上附着的尘土、及灰分中成分有所改变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碳酸盐增加，氯化物和硝酸盐损失，有机磷和有机硫转变为磷酸盐和硫酸盐等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，因此测定出的灰分常称为粗灰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1139760" y="533520"/>
            <a:ext cx="28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灰分的测定：灼烧重量法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6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4"/>
          <p:cNvSpPr/>
          <p:nvPr/>
        </p:nvSpPr>
        <p:spPr>
          <a:xfrm>
            <a:off x="990720" y="1295280"/>
            <a:ext cx="711360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灼烧的温度和升温速度对灰分的残留量有一定的影响。常规测定温度一般控制在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525℃±25℃(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国家标准为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550-600℃)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。温度过高和升温速度过快，会引起部分钾、钠的氯化物挥发损失；也会导致钾、钠的磷酸盐和硅酸盐熔融将部分炭粒包裹，使炭粒烧不尽；由于快速升温引起的空气对流会造成样品微粒飞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1960920" y="533520"/>
            <a:ext cx="94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、方法原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续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6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4"/>
          <p:cNvSpPr/>
          <p:nvPr/>
        </p:nvSpPr>
        <p:spPr>
          <a:xfrm>
            <a:off x="685800" y="3262680"/>
            <a:ext cx="7513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于含磷、硫、氯较多的样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籽粒、香辛类蔬菜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为防止这些元素的损失，常加入一定量的金属钙、镁盐将其固定后再炭化，一般是定量加入醋酸镁的乙醇溶液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浓度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5g/L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将样品湿润，同时加入等量的溶液做空白试验，校正加入的金属盐量。也可定量加入饱和石灰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1884600" y="380880"/>
            <a:ext cx="94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、方法原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续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0082"/>
            </a:gs>
            <a:gs pos="100000">
              <a:srgbClr val="8600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685800" y="2359080"/>
            <a:ext cx="799164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植物中含水量的多少是反映植物生理状态和成熟度的一个指标；含水量适宜植物才能生长健壮，光合效率高，干物质积累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新鲜植物体的含水量在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70-95%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之间，以幼叶为最，茎杆略低，以成熟籽粒含水量最少，一般在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5-15%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植物除去水分后的剩余部分为干物质，干物质中有机物质占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90-95%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矿物质为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-10%(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即灰分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1144800" y="380880"/>
            <a:ext cx="91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概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4"/>
          <p:cNvSpPr/>
          <p:nvPr/>
        </p:nvSpPr>
        <p:spPr>
          <a:xfrm>
            <a:off x="1143000" y="2816280"/>
            <a:ext cx="669132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将标有号码的适宜大小的瓷坩埚在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600℃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高温电炉中灼烧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0.5h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，冷却至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200℃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以下后取出，放入干燥器中冷却至室温，称量；再次灼烧、冷却称量，直至恒重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记录质量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m</a:t>
            </a:r>
            <a:r>
              <a:rPr b="1" lang="en-US" sz="3200" spc="-1" strike="noStrike" baseline="-25000">
                <a:solidFill>
                  <a:srgbClr val="0033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5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2303640" y="876240"/>
            <a:ext cx="23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二、操作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4"/>
          <p:cNvSpPr/>
          <p:nvPr/>
        </p:nvSpPr>
        <p:spPr>
          <a:xfrm>
            <a:off x="609480" y="1523880"/>
            <a:ext cx="777744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称取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.000-3.000g(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磨细混匀的风干样品于已知恒重质量的坩埚中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-2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乙醇溶液使样品湿润，有利于样品的均匀灰化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。将坩埚放在调温电炉上，坩埚盖斜放，调节电炉温度，使样品缓缓加热炭化，至烟冒尽时，将坩埚移入高温电炉中，加热至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525℃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保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-2h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至灰分呈灰白色，无黑色炭粒为止。待冷却至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00℃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以下时，取出坩埚、移入干燥器中，冷却至室温称量。重复灼烧至前后两次称量相差小于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0.5mg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为恒重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5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2633400" y="685800"/>
            <a:ext cx="23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二、操作步骤（续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914400" y="1944360"/>
            <a:ext cx="739152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灰分</a:t>
            </a:r>
            <a:r>
              <a:rPr b="1" lang="en-US" sz="4000" spc="-1" strike="noStrike">
                <a:solidFill>
                  <a:srgbClr val="006600"/>
                </a:solidFill>
                <a:latin typeface="宋体"/>
              </a:rPr>
              <a:t>%=(m</a:t>
            </a:r>
            <a:r>
              <a:rPr b="1" lang="en-US" sz="4000" spc="-1" strike="noStrike" baseline="-25000">
                <a:solidFill>
                  <a:srgbClr val="006600"/>
                </a:solidFill>
                <a:latin typeface="宋体"/>
              </a:rPr>
              <a:t>3</a:t>
            </a:r>
            <a:r>
              <a:rPr b="1" lang="en-US" sz="4000" spc="-1" strike="noStrike">
                <a:solidFill>
                  <a:srgbClr val="006600"/>
                </a:solidFill>
                <a:latin typeface="宋体"/>
              </a:rPr>
              <a:t>- m</a:t>
            </a:r>
            <a:r>
              <a:rPr b="1" lang="en-US" sz="4000" spc="-1" strike="noStrike" baseline="-25000">
                <a:solidFill>
                  <a:srgbClr val="0066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6600"/>
                </a:solidFill>
                <a:latin typeface="宋体"/>
              </a:rPr>
              <a:t>)*m</a:t>
            </a:r>
            <a:r>
              <a:rPr b="1" lang="en-US" sz="4000" spc="-1" strike="noStrike" baseline="-25000">
                <a:solidFill>
                  <a:srgbClr val="006600"/>
                </a:solidFill>
                <a:latin typeface="宋体"/>
              </a:rPr>
              <a:t>2</a:t>
            </a:r>
            <a:r>
              <a:rPr b="1" lang="en-US" sz="4000" spc="-1" strike="noStrike" baseline="30000">
                <a:solidFill>
                  <a:srgbClr val="006600"/>
                </a:solidFill>
                <a:latin typeface="宋体"/>
              </a:rPr>
              <a:t>-1</a:t>
            </a:r>
            <a:r>
              <a:rPr b="1" lang="en-US" sz="4000" spc="-1" strike="noStrike">
                <a:solidFill>
                  <a:srgbClr val="006600"/>
                </a:solidFill>
                <a:latin typeface="宋体"/>
              </a:rPr>
              <a:t>*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式中：  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m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坩埚质量，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g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         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m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样品质量，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g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         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m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坩埚和灰分的质量，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g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5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2409480" y="706320"/>
            <a:ext cx="23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三、结果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4"/>
          <p:cNvSpPr/>
          <p:nvPr/>
        </p:nvSpPr>
        <p:spPr>
          <a:xfrm>
            <a:off x="990720" y="1219320"/>
            <a:ext cx="7343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、新坩埚使用前须在稀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HCl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中煮沸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小时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除去可溶性无机盐和瓷釉上附着的杂质等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，再用自来水、蒸馏水冲洗洁净后，烘干，再于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600℃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下灼烧恒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坩埚和盖上编号可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与蓝黑墨水的混合液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Fe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浓度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g/L)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编号后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00℃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的高温电炉中灼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.5h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即留有不易脱落的砖红色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痕迹号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此号码在盐酸中浸泡较易消色，须注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5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2071080" y="468360"/>
            <a:ext cx="186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注意事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5"/>
          <p:cNvSpPr txBox="1"/>
          <p:nvPr/>
        </p:nvSpPr>
        <p:spPr>
          <a:xfrm>
            <a:off x="1258920" y="2060640"/>
            <a:ext cx="6481800" cy="27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本章内容结束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4"/>
          <p:cNvSpPr/>
          <p:nvPr/>
        </p:nvSpPr>
        <p:spPr>
          <a:xfrm>
            <a:off x="1143000" y="1295280"/>
            <a:ext cx="7128000" cy="13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ffff"/>
                </a:solidFill>
                <a:latin typeface="Arial"/>
              </a:rPr>
              <a:t>水分含量也是农产品品质检测和判断其是否适于贮存的重要指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由于植物样品的含水量波动较大，且风干样品的含水量也会受环境湿度和温度的影响，为保证样品成分分析结果的稳定，成分含量一般以干基计算，需要测定水分含量进行换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4"/>
          <p:cNvSpPr/>
          <p:nvPr/>
        </p:nvSpPr>
        <p:spPr>
          <a:xfrm>
            <a:off x="1562040" y="457200"/>
            <a:ext cx="546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00"/>
                </a:solidFill>
                <a:latin typeface="华文楷体"/>
                <a:ea typeface="华文楷体"/>
              </a:rPr>
              <a:t>第一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00"/>
                </a:solidFill>
                <a:latin typeface="华文楷体"/>
                <a:ea typeface="华文楷体"/>
              </a:rPr>
              <a:t> </a:t>
            </a:r>
            <a:r>
              <a:rPr b="1" lang="zh-CN" sz="5400" spc="-1" strike="noStrike">
                <a:solidFill>
                  <a:srgbClr val="00ff00"/>
                </a:solidFill>
                <a:latin typeface="华文楷体"/>
                <a:ea typeface="华文楷体"/>
              </a:rPr>
              <a:t>植物中水分和干物质的测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1981080" y="2286000"/>
            <a:ext cx="5257800" cy="36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一、测定方法的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二、常压恒温干燥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99ff33"/>
                </a:solidFill>
                <a:latin typeface="Arial"/>
              </a:rPr>
              <a:t>三、减压干燥法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四、蒸馏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4"/>
          <p:cNvSpPr/>
          <p:nvPr/>
        </p:nvSpPr>
        <p:spPr>
          <a:xfrm>
            <a:off x="611280" y="2567160"/>
            <a:ext cx="8064360" cy="24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植物中水分的测定方法较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常用方法有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常压恒温干燥法、减压干燥法、蒸馏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此外还有： 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红外干燥法、冷冻干燥法、微波衰减法、中子法、和卡尔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费休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(Karl  Fischer)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滴定法，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这些方法都需要特殊仪器设备</a:t>
            </a:r>
            <a:r>
              <a:rPr b="1" lang="zh-CN" sz="1800" spc="-1" strike="noStrike">
                <a:solidFill>
                  <a:srgbClr val="ffff66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1711080" y="625320"/>
            <a:ext cx="301824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1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一、测定方法的选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4"/>
          <p:cNvSpPr/>
          <p:nvPr/>
        </p:nvSpPr>
        <p:spPr>
          <a:xfrm>
            <a:off x="457200" y="2252520"/>
            <a:ext cx="828216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常压恒温干燥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使用最普遍，其测定方法简单、准确度较高，适用于不含易挥发成分和热分解成分的样品，是测定水分的标准方法之一；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但对于幼嫩植物组织、含糖、含挥发油的样品则不适用，容易产生较大误差或错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028"/>
          <p:cNvSpPr/>
          <p:nvPr/>
        </p:nvSpPr>
        <p:spPr>
          <a:xfrm>
            <a:off x="609480" y="533520"/>
            <a:ext cx="815364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800" spc="-1" strike="noStrike">
                <a:solidFill>
                  <a:srgbClr val="00ffff"/>
                </a:solidFill>
                <a:latin typeface="隶书"/>
                <a:ea typeface="隶书"/>
              </a:rPr>
              <a:t>减压干燥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适用于含易热解成分的样品，如含糖较多的样品，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但不适于测定含有挥发油成分的样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蒸馏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适合于测定含水量较高的样品，如水果、蔬菜等；同时也适于测定含有挥发油和干性油的样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a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"/>
          <p:cNvSpPr/>
          <p:nvPr/>
        </p:nvSpPr>
        <p:spPr>
          <a:xfrm>
            <a:off x="533520" y="1902240"/>
            <a:ext cx="8153280" cy="37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、方法原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植物样品在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100-105℃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烘箱中烘干，通过样品的失重量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水分量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，计算水分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样品在烘干过程中，可能有部分易焦化、分解和挥发的成分损失而产生正误差；也可能因水分未完全驱除或在冷却、称量过程中吸湿，或因部分不饱和脂肪被氧化产生增重，而产生负误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66ffff"/>
                </a:solidFill>
                <a:latin typeface="Arial"/>
              </a:rPr>
              <a:t>本法是测定植物水分的标准方法之一，应严格控制操作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4309560" y="380880"/>
            <a:ext cx="23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二、常压恒温干燥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8:04:04Z</dcterms:created>
  <dc:creator>ysx</dc:creator>
  <dc:description/>
  <dc:language>en-US</dc:language>
  <cp:lastModifiedBy>sxyang</cp:lastModifiedBy>
  <dcterms:modified xsi:type="dcterms:W3CDTF">2019-02-25T00:36:05Z</dcterms:modified>
  <cp:revision>13</cp:revision>
  <dc:subject/>
  <dc:title>幻灯片 1</dc:title>
</cp:coreProperties>
</file>